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333129A-C23A-4BEB-8A4B-177FE9F8EAD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99138C-B933-4181-80DF-ECAC1720B1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E723-9832-4214-BCCF-960349765B8D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onférence de territo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Permanence des soins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Etablissements de Santé (PD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05320" y="5638680"/>
            <a:ext cx="3043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1f0b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7 engagements contractuels liés à la mission de PDS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ettre en place une gouvernance interne et territoriale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er d’un coordinateur PDSES, interlocuteu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mensionner ses ressources de manière à pouvoir assurer la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S’engager au « 0 refu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Favoriser le retour des patients vers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souha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ssurer le suivi et l’évaluation du dispositif, avec notamment la mise en place d’un registre des ref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60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Garantir l’accessibilité financière aux soins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24000" y="692280"/>
            <a:ext cx="8610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Clr>
                <a:srgbClr val="7ab800"/>
              </a:buClr>
              <a:buSzPct val="30000"/>
              <a:buFont typeface="Arial"/>
              <a:buChar char="•"/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Le dispositif d’évaluation</a:t>
            </a:r>
            <a:r>
              <a:rPr b="1" lang="fr-FR" sz="26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24000" y="1628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ise en place d’un registre des refus et des dysfonctionnement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gestion des risques en lien avec la plateforme de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veille sanitaire de l’ARS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tocole d’évaluation du dispositif :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Prise en charge chirurgicale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épercussions éventuelles (urgences, transports…)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Conditions d’exercice des praticien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ecommandations de bonnes pratiques par les sociétés savant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ct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Procédure de sélection envisagée pour les établissements assurant </a:t>
            </a:r>
            <a:br>
              <a:rPr sz="3200"/>
            </a:b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la PDSES « nuit complète »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 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3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ffusion du cahier des charges à tous les établiss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Confirmation et dépôt de dossier par les établissements : 30 octo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is du comité consultatif PDSES : autour du 24 nov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cision par le DG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RS Ile-de-France : 30 novem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enant au CPOM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au 01 01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52567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as de procédure de sélection pour les établissements assurant la première partie de nuit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nstances  : Commission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,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s de terrritoire, CRSA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Professionnels, notamment la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 des urgentistes d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’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le-de-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Usa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E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310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8960" indent="-8589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finition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je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éthodologie de la démarche PDSES et calend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ésentation du cahier des charges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itif d’é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sé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22068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8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Ordre du jou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Définitions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902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Permanence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Accueil et prise en charge des patients non déjà hospitalisés dans l</a:t>
            </a:r>
            <a:r>
              <a:rPr b="0" i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établissement et se présentant dans un service d ’urgence aux horaires PDSES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n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samedi après-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dimanche ainsi que jours fér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engagement volontaire des établiss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à distinguer de l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tivité des services de médecine d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u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La continuité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Prise en charge et surveillance des patients déjà hospitalisés au sein de l</a:t>
            </a:r>
            <a:r>
              <a:rPr b="0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établ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obligation réglementaire pour les établissements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Enjeux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238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Sécuriser la prise en charge aux horaires de permanence des s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Améliorer l’efficience notamment par une meilleure répartition de la ressource méd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Garantir l’accessibilité des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Méthode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47560"/>
            <a:ext cx="8223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2 groupes rég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pilotage (fédérations, AP-HP, conférences de directeurs, conférence de Psdt CME, organisations professionnelles 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concertation (syndicats de praticie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6 consultations d</a:t>
            </a:r>
            <a:r>
              <a:rPr b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 groupes de travail théma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enquêtes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(Etablissements de Santé, SAMU-SM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séries de réunions départementales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(février, juin, octobre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s travaux PDSES en 2012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éorganisation de la prise en charge en chirurgi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viscérale et diges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orthopédique et traumatologi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Sur la base d</a:t>
            </a:r>
            <a:r>
              <a:rPr b="0" lang="ja-JP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un cahier des charges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assage devant les instances avant 01/01/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2012, année préparatoire permettant des ajustements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our le schéma cible SROS-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Autres chantiers en cours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Autres spécialités chirurgicales</a:t>
            </a: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99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ORL, stomatologie, vasculaire, ophtalmologie, urologie, pédiatrie,   polytraumatisé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 en 2012  après avis d’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Psychiatrie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aux réflexions urgences psychiatriques (loi 5 juille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Imager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Expérimentations de télé imagerie à lancer d’ici f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Neuro-chirurgie et neuro-radiologie interventionnelle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5749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Intégration de ces travaux dans le SROS-PRS fin 2012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1052640"/>
            <a:ext cx="763272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ahier des charges PD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« Prise en charge des patients en chirurgie adulte pour l'activité nocturne » 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Arial"/>
                <a:ea typeface="Times New Roman"/>
              </a:rPr>
              <a:t>* : chirurgie  orthopédique et traumatologique et chirurgie digestive et viscérale</a:t>
            </a:r>
            <a:r>
              <a:rPr b="1" lang="fr-FR" sz="1200" spc="-1" strike="noStrike">
                <a:solidFill>
                  <a:srgbClr val="002395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Flèche droite 5"/>
          <p:cNvSpPr/>
          <p:nvPr/>
        </p:nvSpPr>
        <p:spPr>
          <a:xfrm>
            <a:off x="3780000" y="5157720"/>
            <a:ext cx="977760" cy="397080"/>
          </a:xfrm>
          <a:prstGeom prst="rightArrow">
            <a:avLst>
              <a:gd name="adj1" fmla="val 50000"/>
              <a:gd name="adj2" fmla="val 609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Un cahier des charges pour un réseau d</a:t>
            </a:r>
            <a:r>
              <a:rPr b="1" lang="ja-JP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’</a:t>
            </a: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établissement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7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Un réseau gradué d</a:t>
            </a:r>
            <a:r>
              <a:rPr b="1" lang="ja-JP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’</a:t>
            </a: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établis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- Couvrant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semble des territoires et l’ensemble de la n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u début de la garde jusqu’à 22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e 22h30 à 8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 accès sécurisé à chaque  franci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76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e prise en charge par des équipes complètes, disponibles, « séniorisées » et motivées</a:t>
            </a:r>
            <a:r>
              <a:rPr b="0" lang="fr-FR" sz="19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9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047400"/>
            <a:ext cx="46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les mêmes qu’aujourd’hui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600200" y="4034880"/>
            <a:ext cx="72388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un établissement pour 400 000 à 600 000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abitants, sauf Pari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rocédure de sélec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MAS</cp:lastModifiedBy>
  <cp:lastPrinted>2010-12-15T14:35:13Z</cp:lastPrinted>
  <dcterms:modified xsi:type="dcterms:W3CDTF">2011-10-26T16:58:20Z</dcterms:modified>
  <cp:revision>981</cp:revision>
  <dc:subject/>
  <dc:title>Présentation PowerPoint</dc:title>
</cp:coreProperties>
</file>